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20.xml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atemes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 flipV="1">
            <a:off x="3313080" y="2729520"/>
            <a:ext cx="2699280" cy="135288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1" name=""/>
          <p:cNvCxnSpPr>
            <a:stCxn id="98" idx="3"/>
          </p:cNvCxnSpPr>
          <p:nvPr/>
        </p:nvCxnSpPr>
        <p:spPr>
          <a:xfrm>
            <a:off x="3313080" y="4082040"/>
            <a:ext cx="2689560" cy="1800"/>
          </a:xfrm>
          <a:prstGeom prst="bentConnector3">
            <a:avLst>
              <a:gd name="adj1" fmla="val 54404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were 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er Magen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98" idx="3"/>
            <a:endCxn id="102" idx="1"/>
          </p:cNvCxnSpPr>
          <p:nvPr/>
        </p:nvCxnSpPr>
        <p:spPr>
          <a:xfrm>
            <a:off x="3313080" y="4082040"/>
            <a:ext cx="2699280" cy="13482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877680" y="54936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atemes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bgeschlucktes 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4" idx="3"/>
            <a:endCxn id="166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7" name=""/>
          <p:cNvCxnSpPr>
            <a:stCxn id="164" idx="3"/>
            <a:endCxn id="168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C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51200" y="549360"/>
            <a:ext cx="66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ämatemesis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Verbrau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0560" y="639684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51200" y="549360"/>
            <a:ext cx="66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ämatemesis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2" idx="3"/>
            <a:endCxn id="17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mmunmedi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hrombozytopen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hrlichia-platys-Infektion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8" idx="3"/>
            <a:endCxn id="17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51200" y="549360"/>
            <a:ext cx="66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atemesis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04760" y="549360"/>
            <a:ext cx="70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ämatemesis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equestratio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2" idx="3"/>
            <a:endCxn id="18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stemische 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immunkrankhei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orsion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51200" y="549360"/>
            <a:ext cx="66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ämatemesis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7" idx="3"/>
            <a:endCxn id="19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 Acetylsalicylsäur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on Willebrand-Faktor-Mange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erglobuli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Urämi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3"/>
            <a:endCxn id="194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57680" y="549360"/>
            <a:ext cx="69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atemesis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57680" y="549360"/>
            <a:ext cx="69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ämatemesis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angel an 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7" idx="3"/>
            <a:endCxn id="19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2" name=""/>
          <p:cNvCxnSpPr>
            <a:endCxn id="20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57680" y="549360"/>
            <a:ext cx="69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ämatemesis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angel an Gerinnungsfaktor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4" idx="3"/>
            <a:endCxn id="20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9" name=""/>
          <p:cNvCxnSpPr>
            <a:endCxn id="20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31400" y="549360"/>
            <a:ext cx="73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ämatemesis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angel an Gerinnungsfaktor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1" idx="3"/>
            <a:endCxn id="21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ämophilie 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ämophilie B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31400" y="549360"/>
            <a:ext cx="721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ämatemesis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angel an Gerinnungsfaktor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6" idx="3"/>
            <a:endCxn id="21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ber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geschluck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76600" y="549360"/>
            <a:ext cx="40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ämatemesi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abgeschlucktes 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7" idx="3"/>
            <a:endCxn id="110" idx="1"/>
          </p:cNvCxnSpPr>
          <p:nvPr/>
        </p:nvCxnSpPr>
        <p:spPr>
          <a:xfrm>
            <a:off x="3313080" y="4080960"/>
            <a:ext cx="129456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4616280" y="1628640"/>
            <a:ext cx="3735720" cy="4905360"/>
          </a:xfrm>
          <a:custGeom>
            <a:avLst/>
            <a:gdLst>
              <a:gd name="textAreaLeft" fmla="*/ 182160 w 3735720"/>
              <a:gd name="textAreaRight" fmla="*/ 3553560 w 373572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2">
                <a:moveTo>
                  <a:pt x="3600" y="0"/>
                </a:moveTo>
                <a:arcTo wR="3600" hR="3600" stAng="16200000" swAng="-5400000"/>
                <a:lnTo>
                  <a:pt x="0" y="24762"/>
                </a:lnTo>
                <a:arcTo wR="3600" hR="3600" stAng="10800000" swAng="-5400000"/>
                <a:lnTo>
                  <a:pt x="18000" y="283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asenblut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lutung in die Maulhöhl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440" y="549360"/>
            <a:ext cx="73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ämatemesis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Störung der Hämostase &gt; 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ämostase &gt; Mangel an Gerinnungsfaktoren &gt; 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21" idx="3"/>
            <a:endCxn id="22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C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0560" y="639684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were 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Magen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rritation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lc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7" idx="3"/>
            <a:endCxn id="230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1" name=""/>
          <p:cNvCxnSpPr>
            <a:stCxn id="227" idx="3"/>
            <a:endCxn id="22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7720" y="549360"/>
            <a:ext cx="59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ämatemesi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schwere Schädigung der Magen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rritation/Ulc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6640" y="549360"/>
            <a:ext cx="786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ämatemesi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schwere Schädigung der Magenwand &gt; Irritation/Ulc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4" idx="3"/>
            <a:endCxn id="23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str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r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berversagen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o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NSAID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hochdosierten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lukokortiko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astzell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strinom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9480" y="6396840"/>
            <a:ext cx="38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NSAIDs = nicht-steroidale Antiphlogistika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2" idx="3"/>
            <a:endCxn id="11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6" name=""/>
          <p:cNvCxnSpPr>
            <a:stCxn id="112" idx="3"/>
            <a:endCxn id="11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960840" y="549360"/>
            <a:ext cx="42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atemesis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9" idx="3"/>
            <a:endCxn id="121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2" name=""/>
          <p:cNvCxnSpPr>
            <a:stCxn id="119" idx="3"/>
            <a:endCxn id="123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9" idx="3"/>
            <a:endCxn id="124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51200" y="549360"/>
            <a:ext cx="66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atemesis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51200" y="549360"/>
            <a:ext cx="66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ämatemesis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3"/>
            <a:endCxn id="13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I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ishman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6396840"/>
            <a:ext cx="30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4" idx="3"/>
            <a:endCxn id="13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8" name=""/>
          <p:cNvCxnSpPr>
            <a:stCxn id="134" idx="3"/>
            <a:endCxn id="13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4" idx="3"/>
            <a:endCxn id="139" idx="1"/>
          </p:cNvCxnSpPr>
          <p:nvPr/>
        </p:nvCxnSpPr>
        <p:spPr>
          <a:xfrm flipV="1">
            <a:off x="3312720" y="2055600"/>
            <a:ext cx="2699640" cy="202608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2" name=""/>
          <p:cNvCxnSpPr>
            <a:stCxn id="134" idx="3"/>
            <a:endCxn id="140" idx="1"/>
          </p:cNvCxnSpPr>
          <p:nvPr/>
        </p:nvCxnSpPr>
        <p:spPr>
          <a:xfrm>
            <a:off x="3312720" y="4081320"/>
            <a:ext cx="2699640" cy="202824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1051200" y="549360"/>
            <a:ext cx="66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atemesis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51200" y="549360"/>
            <a:ext cx="66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ämatemesis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5" idx="3"/>
            <a:endCxn id="14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0" name=""/>
          <p:cNvCxnSpPr>
            <a:endCxn id="14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51200" y="549360"/>
            <a:ext cx="666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ämatemesis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2" idx="3"/>
            <a:endCxn id="15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dere Rickettsien-Infektion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influss von Östrog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eLV-Infek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6396840"/>
            <a:ext cx="285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eLV = felines Leukämieviru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51200" y="549360"/>
            <a:ext cx="66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ämatemesis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8" idx="3"/>
            <a:endCxn id="16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Sulfonam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 Östr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v. a. Hund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shmanios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3800" y="639684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Gregor und Steffi</cp:lastModifiedBy>
  <cp:lastPrinted>1999-05-13T12:26:48Z</cp:lastPrinted>
  <dcterms:modified xsi:type="dcterms:W3CDTF">2008-10-16T13:17:11Z</dcterms:modified>
  <cp:revision>332</cp:revision>
  <dc:subject/>
  <dc:title>Vorstellung einer Neuheit</dc:title>
</cp:coreProperties>
</file>